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A3F4-6AE4-4B1C-8CA4-226AB12C550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 PCB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布线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 Route/All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工具栏中的布线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完成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技巧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ift+Sp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切换导线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直角导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意角度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弧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属性编辑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时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可对导线属性进行编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6200" y="1979640"/>
            <a:ext cx="5905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过孔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3480" y="1484280"/>
            <a:ext cx="482580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孔可连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。选择工具栏中的放置过孔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V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放置过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03840" y="1343160"/>
            <a:ext cx="3044880" cy="5398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3225960"/>
            <a:ext cx="4032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泪滴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31280" cy="15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泪滴是把走线与焊盘或过孔逐渐加大形成泪滴状，使其连接更可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Teardrops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弹出的泪滴属性对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对所选网络添加泪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24320" y="3103560"/>
            <a:ext cx="3776760" cy="298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3662280"/>
            <a:ext cx="23511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敷铜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8656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敷铜是在电路板的空白处铺设铜膜。选择工具栏中的敷铜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Polygon pla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敷铜对话框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97160" y="2421000"/>
            <a:ext cx="4578480" cy="361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1480" y="2567160"/>
            <a:ext cx="313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/Rule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可设置导线间最小间距，导线宽度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063880"/>
            <a:ext cx="6769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69192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检查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点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DR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可进行电路板设计规则检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什么是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？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292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ed circuit bo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简称，即印刷电路板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要功能是固定各种零件，并提供其上各个零件的相互电气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的绿色或是棕色，是阻焊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lder ma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的颜色。这层是绝缘的防护层，可以保护铜线，也可以防止零件被焊到不正确的地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阻焊层上另外会印刷上一层丝网印刷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lk scre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通常在这上面会印上文字与符号（大多是白色的），以标示出各零件在板子上的位置。丝网印刷面也被称作图标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的种类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单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双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多层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Layer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信号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电源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地线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737080" cy="146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259236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448000" cy="13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59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零件封装技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插入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ugh Hole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种零件会需要占用大量的空间，并且要为每只接脚钻一个洞。接脚其实占掉两面的空间，而且焊点也比较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面黏贴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rface Mounted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面黏贴式封装的零件，接脚是焊在与零件同一面。体积小，占用空间少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735280" cy="146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2232000" cy="137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232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原理图的网络表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68144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Create Netli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etlist Crea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话框，如图所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对话框中确定网络表输出格式、网络定义范围以及产生网络表后相应的执行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生成原理图相应的网络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54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一个印制电路板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ile/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选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B Docu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建立一个印制电路板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4920" y="2492280"/>
            <a:ext cx="597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绘制电路板边框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换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eepOutLay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，选择工具栏中的布线工具，或者选择菜单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，绘制封闭的电路板边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59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载入网络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Load Net…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钮选择网络表，添加网络表成功后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令执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53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元器件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Auto Placement/Auto Placer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元器件的布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拖曳的方式分别将元件一个个拖进电路板边框范围内，选中元件时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格）键旋转元件，将元件在电路板内一一摆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Marco</cp:lastModifiedBy>
  <dcterms:modified xsi:type="dcterms:W3CDTF">2003-07-28T17:00:36Z</dcterms:modified>
  <cp:revision>49</cp:revision>
  <dc:subject/>
  <dc:title>MC68HC908GP32IDK 在线编程开发系统</dc:title>
</cp:coreProperties>
</file>